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77075" cy="9050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B451-C3C7-4435-9A88-79E4DADE7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8666-8E9D-466F-AB63-3BF53D59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2AEB-71BD-48E3-8947-A6AD12C10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A109-BDED-4AB9-B329-42D018F3C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D119-4723-410B-A945-55851ACB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0D31-44DC-4AED-90EB-92BDE57F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55E5-B6AD-410A-9FCA-BC679852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EC4C-FBEF-4F0A-8D03-E9900DAF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74CF-082A-4FF9-9D17-C1EEDD03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6690-709C-4C23-8166-F5D27DE5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3B69-E41A-4521-B759-786BE7C2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BD62-D267-42BA-8692-B0917B74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8858-51D3-4FF9-88A1-93A30E011A4D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convocatoria%20oct%202009.pdf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D:\Users\USUARIO\Pictures\Publiteca\AGOSTO-SEPTIEMBRE\PLANTILLAS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42960" y="35715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0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6600" spc="-1" strike="noStrike">
                <a:solidFill>
                  <a:srgbClr val="ffffff"/>
                </a:solidFill>
                <a:latin typeface="Calibri"/>
              </a:rPr>
              <a:t>GESTION DEL TALENTO HUMANO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REINDUCCIÓN AL PERSONAL</a:t>
            </a:r>
            <a:br>
              <a:rPr sz="4000"/>
            </a:b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“ Fortalecimiento del Quehacer de la Corporación”</a:t>
            </a: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 reorienta al personal para integrarlo a la nueva cultura organizacional , en virtud de los cambios y  nuevas disposiciones normativas e institucionales.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7 Imagen" descr="DSC_0167.JPG"/>
          <p:cNvPicPr/>
          <p:nvPr/>
        </p:nvPicPr>
        <p:blipFill>
          <a:blip r:embed="rId2"/>
          <a:stretch/>
        </p:blipFill>
        <p:spPr>
          <a:xfrm>
            <a:off x="539640" y="2133720"/>
            <a:ext cx="403884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FORMACION Y DESARROLLO DE LAS COMPETENCIAS LABORA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Se realizaron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diplomado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curso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seminario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conferencias  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otros eventos de capacitación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en las siguientes temátic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2920" y="1773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1. Alta Gerencia Ambiental Competitiv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2. Gestión para el Manejo de Áreas Protegid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3. Sistemas de Gestión de la Calid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4. Procedimiento Sancionatorio Ambient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5. Plan Departamental de Agu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2 CuadroTexto"/>
          <p:cNvSpPr/>
          <p:nvPr/>
        </p:nvSpPr>
        <p:spPr>
          <a:xfrm>
            <a:off x="611280" y="609300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OTRAS TEMÁTIC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290680" y="2422440"/>
            <a:ext cx="4562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.   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Bioética Ambi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7.   Aplicación Ley Desarrollo Terri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8.   Código Único Discipli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9.   Evaluación del Desempeño Lab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10. Contratación Esta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11. Retención Docu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12. Encuentros con la Excel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2627280" y="2781360"/>
            <a:ext cx="588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0000"/>
                </a:solidFill>
                <a:latin typeface="Arial"/>
              </a:rPr>
              <a:t>Gracias </a:t>
            </a:r>
            <a:br>
              <a:rPr sz="4800"/>
            </a:br>
            <a:r>
              <a:rPr b="1" lang="es-CO" sz="4800" spc="-1" strike="noStrike">
                <a:solidFill>
                  <a:srgbClr val="000000"/>
                </a:solidFill>
                <a:latin typeface="Arial"/>
              </a:rPr>
              <a:t>por su Aten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4 CuadroTexto"/>
          <p:cNvSpPr/>
          <p:nvPr/>
        </p:nvSpPr>
        <p:spPr>
          <a:xfrm>
            <a:off x="1116000" y="765000"/>
            <a:ext cx="728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Calibri"/>
              </a:rPr>
              <a:t>FORTALECIMIENTO DEL SIGC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REORGANIZACIÓN ADMINISTRA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Acuerdos Consejo Directivo, mayo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Acuerdo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1149.   Nueva Estructura Inte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Facilita la comunicación, la coordinación y la   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articulación integral de los procesos del SIG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Planta de Person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547640" y="2852640"/>
            <a:ext cx="2376720" cy="576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Acuerdo 11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1763640" y="4221000"/>
            <a:ext cx="2087640" cy="648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Acuerdo 1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00"/>
                </a:solidFill>
                <a:latin typeface="Calibri"/>
              </a:rPr>
              <a:t>CLASIFICACIÓN DE CARGOS  SEGÚN LA NATURALEZA DE LAS FUNCIONES</a:t>
            </a:r>
            <a:r>
              <a:rPr b="0" lang="es-CO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500120" y="1857240"/>
          <a:ext cx="6429600" cy="3475080"/>
        </p:xfrm>
        <a:graphic>
          <a:graphicData uri="http://schemas.openxmlformats.org/drawingml/2006/table">
            <a:tbl>
              <a:tblPr/>
              <a:tblGrid>
                <a:gridCol w="3224160"/>
                <a:gridCol w="320544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VE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ERO DE CARG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CTIV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ESO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ESION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NIC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ISTENCI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2 CuadroTexto"/>
          <p:cNvSpPr/>
          <p:nvPr/>
        </p:nvSpPr>
        <p:spPr>
          <a:xfrm>
            <a:off x="611280" y="609300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3 CuadroTexto"/>
          <p:cNvSpPr/>
          <p:nvPr/>
        </p:nvSpPr>
        <p:spPr>
          <a:xfrm>
            <a:off x="928800" y="785880"/>
            <a:ext cx="70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00"/>
                </a:solidFill>
                <a:latin typeface="Calibri"/>
              </a:rPr>
              <a:t>VINCULACIÓN LABORAL DE LOS SERVIDORES CDMB. 2009</a:t>
            </a: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Dos formas de vinculació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1.  Por Concurso de Mérit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2.  Por Contratación de Servici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4 CuadroTexto"/>
          <p:cNvSpPr/>
          <p:nvPr/>
        </p:nvSpPr>
        <p:spPr>
          <a:xfrm>
            <a:off x="1000080" y="785880"/>
            <a:ext cx="70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Calibri"/>
              </a:rPr>
              <a:t>Concurso de Méri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Convocatoria 001 de 2005” Comisión Nacional del Servicio Civil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En 2009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Se conformaron dos listas de elegibles para proveer los siguientes emple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48320" y="1600200"/>
          <a:ext cx="4064040" cy="4525920"/>
        </p:xfrm>
        <a:graphic>
          <a:graphicData uri="http://schemas.openxmlformats.org/drawingml/2006/table">
            <a:tbl>
              <a:tblPr/>
              <a:tblGrid>
                <a:gridCol w="216000"/>
                <a:gridCol w="384804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NOMINACION DEL EMPLE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ESIONAL ESPECIALIZADO 2028 GRADO 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ESIONAL UNIVERSITARIO 2044 GRADO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CONTRATOS PRESTACION DE SERVICIO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Durante 2009: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Se realizaron dos convocatorias a través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periódicos locales para vinculación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Contratist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</a:rPr>
              <a:t>	</a:t>
            </a:r>
            <a:r>
              <a:rPr b="1" lang="es-CO" sz="3200" spc="-1" strike="noStrike" u="sng">
                <a:solidFill>
                  <a:srgbClr val="0000ff"/>
                </a:solidFill>
                <a:uFillTx/>
                <a:latin typeface="Calibri"/>
              </a:rPr>
              <a:t>Mayo de 2009</a:t>
            </a:r>
            <a:r>
              <a:rPr b="1" lang="es-CO" sz="3200" spc="-1" strike="noStrike">
                <a:solidFill>
                  <a:srgbClr val="0000ff"/>
                </a:solidFill>
                <a:latin typeface="Calibri"/>
              </a:rPr>
              <a:t>  y</a:t>
            </a: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Octubre de 2009. </a:t>
            </a: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Son requeridos para desarrollar las actividades que no pueden ser realizadas por el personal de plan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4 CuadroTexto"/>
          <p:cNvSpPr/>
          <p:nvPr/>
        </p:nvSpPr>
        <p:spPr>
          <a:xfrm>
            <a:off x="1000080" y="785880"/>
            <a:ext cx="70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Calibri"/>
              </a:rPr>
              <a:t>2. Política del Talento Hum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1332000" y="1341360"/>
            <a:ext cx="576108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Se diseñó e inició la implementación de esta polít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O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O" sz="2000" spc="-1" strike="noStrike">
                <a:solidFill>
                  <a:srgbClr val="000000"/>
                </a:solidFill>
                <a:latin typeface="Arial"/>
              </a:rPr>
              <a:t>Contar con un talento humano competente, innovador, con sentido de compromiso y pertenencia hacia la entidad, afianzado en valores éticos, crecimiento de personal, ejercicio  y manejo eficiente de los recursos públicos, a través de la compensación e incentivos que permitan estimular a los servidores y desarrollar la excelencia laboral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132000" y="386064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8"/>
          <p:cNvSpPr/>
          <p:nvPr/>
        </p:nvSpPr>
        <p:spPr>
          <a:xfrm>
            <a:off x="3059280" y="1916280"/>
            <a:ext cx="3600360" cy="649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Obje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4 CuadroTexto"/>
          <p:cNvSpPr/>
          <p:nvPr/>
        </p:nvSpPr>
        <p:spPr>
          <a:xfrm>
            <a:off x="1000080" y="785880"/>
            <a:ext cx="70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PLAN INSTITUCIONAL DE CAPACITA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Se formuló e implementó un plan de capacitación para los servidores, con base e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El decreto 1567 de 1998 y la Política de Gestión del Talento Humano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8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1" i="1" lang="es-CO" sz="2800" spc="-1" strike="noStrike">
                <a:solidFill>
                  <a:srgbClr val="000000"/>
                </a:solidFill>
                <a:latin typeface="Calibri"/>
              </a:rPr>
              <a:t>Líneas Estratégicas de Acció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800" spc="-1" strike="noStrike">
                <a:solidFill>
                  <a:srgbClr val="000000"/>
                </a:solidFill>
                <a:latin typeface="Calibri"/>
              </a:rPr>
              <a:t>Plan de Induc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800" spc="-1" strike="noStrike">
                <a:solidFill>
                  <a:srgbClr val="000000"/>
                </a:solidFill>
                <a:latin typeface="Calibri"/>
              </a:rPr>
              <a:t>Plan de Reinduc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800" spc="-1" strike="noStrike">
                <a:solidFill>
                  <a:srgbClr val="000000"/>
                </a:solidFill>
                <a:latin typeface="Calibri"/>
              </a:rPr>
              <a:t>Formación y Desarrollo de las Competencias Labor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9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4 CuadroTexto"/>
          <p:cNvSpPr/>
          <p:nvPr/>
        </p:nvSpPr>
        <p:spPr>
          <a:xfrm>
            <a:off x="1116000" y="765000"/>
            <a:ext cx="70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Calibri"/>
              </a:rPr>
              <a:t>INDUCCION A SERVIDO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es-CO" sz="2800" spc="-1" strike="noStrike">
                <a:solidFill>
                  <a:srgbClr val="000000"/>
                </a:solidFill>
                <a:latin typeface="Calibri"/>
              </a:rPr>
              <a:t>Aprender Sobre la CDMB”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CO" sz="2400" spc="-1" strike="noStrike">
                <a:solidFill>
                  <a:srgbClr val="000000"/>
                </a:solidFill>
                <a:latin typeface="Calibri"/>
              </a:rPr>
              <a:t>Se proporciona a los nuevos servidores, las herramientas  y pautas acerca de la misión visión, funciones, quehacer y  responsabilidades en cada proceso del SIG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12 Marcador de contenido" descr="INDUCCION NOV 27 DE 2009.JPG"/>
          <p:cNvPicPr/>
          <p:nvPr/>
        </p:nvPicPr>
        <p:blipFill>
          <a:blip r:embed="rId2"/>
          <a:stretch/>
        </p:blipFill>
        <p:spPr>
          <a:xfrm>
            <a:off x="4648320" y="2509920"/>
            <a:ext cx="40384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9:22:23Z</dcterms:created>
  <dc:creator>USUARIO</dc:creator>
  <dc:description/>
  <dc:language>en-US</dc:language>
  <cp:lastModifiedBy>profrh</cp:lastModifiedBy>
  <dcterms:modified xsi:type="dcterms:W3CDTF">2010-04-22T21:37:53Z</dcterms:modified>
  <cp:revision>109</cp:revision>
  <dc:subject/>
  <dc:title>Diapositiva 1</dc:title>
</cp:coreProperties>
</file>